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49B2-A894-4938-8B44-ECF41B633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8063-97BF-43FD-965D-9ED38AB0D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7-</a:t>
            </a:r>
            <a:fld id="{314B5A56-6DD9-47A8-BE05-F9330D672E65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7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cess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 costing is a costing system in which the product or service cost is obtained by assigning costs to masses of lik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version costs are costs that are applied uniformly in a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costs are assumed to be applied at discrete points in the production pro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nsferred costs are costs transferred from one department to another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355920"/>
            <a:ext cx="198144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part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477120" y="3200400"/>
            <a:ext cx="2361960" cy="1191240"/>
            <a:chOff x="6477120" y="3200400"/>
            <a:chExt cx="2361960" cy="1191240"/>
          </a:xfrm>
        </p:grpSpPr>
        <p:sp>
          <p:nvSpPr>
            <p:cNvPr id="56" name=""/>
            <p:cNvSpPr/>
            <p:nvPr/>
          </p:nvSpPr>
          <p:spPr>
            <a:xfrm>
              <a:off x="7162920" y="320040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nish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ood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nventory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3765600"/>
              <a:ext cx="761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1996920"/>
            <a:ext cx="2590920" cy="3537000"/>
            <a:chOff x="0" y="1996920"/>
            <a:chExt cx="2590920" cy="3537000"/>
          </a:xfrm>
        </p:grpSpPr>
        <p:sp>
          <p:nvSpPr>
            <p:cNvPr id="59" name=""/>
            <p:cNvSpPr/>
            <p:nvPr/>
          </p:nvSpPr>
          <p:spPr>
            <a:xfrm>
              <a:off x="0" y="199692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52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" y="470844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13716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144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82736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19720" y="1920960"/>
            <a:ext cx="3429000" cy="3644640"/>
            <a:chOff x="4419720" y="1920960"/>
            <a:chExt cx="3429000" cy="3644640"/>
          </a:xfrm>
        </p:grpSpPr>
        <p:sp>
          <p:nvSpPr>
            <p:cNvPr id="66" name=""/>
            <p:cNvSpPr/>
            <p:nvPr/>
          </p:nvSpPr>
          <p:spPr>
            <a:xfrm>
              <a:off x="4419720" y="474012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 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57800" y="192096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7150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1722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52578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5308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362320" y="3200400"/>
            <a:ext cx="4343400" cy="1111320"/>
            <a:chOff x="2362320" y="3200400"/>
            <a:chExt cx="4343400" cy="1111320"/>
          </a:xfrm>
        </p:grpSpPr>
        <p:sp>
          <p:nvSpPr>
            <p:cNvPr id="73" name=""/>
            <p:cNvSpPr/>
            <p:nvPr/>
          </p:nvSpPr>
          <p:spPr>
            <a:xfrm>
              <a:off x="2514600" y="3200400"/>
              <a:ext cx="198108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ransferr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62320" y="3765600"/>
              <a:ext cx="22860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4280" y="3384720"/>
              <a:ext cx="1981440" cy="825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sting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epartmen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te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valent units is a measure of the output of a process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0 units 25% complete = 15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ve Steps in Process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ck the physical units of out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the number of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cost per equivalent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 total costs to account f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ign costs to units completed and transferred out of the department and units in end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0 - 6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ighted Average and FIFO Metho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ighted Aver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lculates the average equivalent unit cost of the work done to date regardless of when the work was don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moothes out unit costs from month to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carried forward from the previous period are assigned directly to completed goo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umes that work required to finish incomplete units (from the previous month) is done at the beginning of the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3 - 65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ybrid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3352680"/>
            <a:ext cx="784836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 systems have a blend of job-costing and process-costing characteristic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y car manufacturers account for the use of materials following job-costing but account for labour and overhead following a process-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400040"/>
            <a:ext cx="2361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b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666880"/>
            <a:ext cx="59436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53 - 65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479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915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191120" y="49528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411480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58672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on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772400" cy="20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 costing is a hybrid costing system applied to batches of similar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ach batch is often a variation on a single design and proceeds through a sequence of selected activities or oper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448160"/>
            <a:ext cx="1295640" cy="885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88620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472428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562720"/>
            <a:ext cx="1676520" cy="533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C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676520" y="4114440"/>
            <a:ext cx="761760" cy="7621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4876920"/>
            <a:ext cx="761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4876920"/>
            <a:ext cx="761760" cy="9144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4012200" y="4140720"/>
            <a:ext cx="17290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4850280" y="5078520"/>
            <a:ext cx="172908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5231520" y="4621680"/>
            <a:ext cx="2643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267080"/>
            <a:ext cx="1676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61 - 66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12:54:18Z</dcterms:created>
  <dc:creator>User</dc:creator>
  <dc:description/>
  <dc:language>en-US</dc:language>
  <cp:lastModifiedBy>John Moore</cp:lastModifiedBy>
  <dcterms:modified xsi:type="dcterms:W3CDTF">2003-03-22T13:21:18Z</dcterms:modified>
  <cp:revision>16</cp:revision>
  <dc:subject/>
  <dc:title>Process Costing Systems</dc:title>
</cp:coreProperties>
</file>